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ECEB-42F1-4533-9085-9B68C5897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834D-C405-488F-B6D3-F4C4FA968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01E3-C00B-445F-BAB7-22BD1D6B7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BBA0-14A4-4C4E-9D15-140F1408A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B899E-DEA0-408B-B0C9-02D219D9D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12D68-E741-4520-B3A8-C0D082447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A95CF-2B30-4624-8FD5-6945D49A8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3615F-3D82-4B33-B5F4-B28B00E9C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4A8B9-1342-4C3A-BEFF-3F13BB5C3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EF961-3EFC-45B3-AFB5-9454D2BF1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BBC78-BDEE-4A97-8046-FC6D1E98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2871-F931-4DE2-917D-B02E73757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0179E-E97D-44F5-9B93-1342AA33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0433A-2BDE-443E-B725-CC5711A1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866BB-2C19-48F0-8E61-28D81F5EE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3ADED-E84E-476A-9C5C-67306F283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26D43-9664-4245-8357-3DD80A61F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89F5-BCE4-4A15-90FF-7B605D869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7D43-6BEE-481F-83D3-9EF23EC02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D10A-39EB-4E92-B6DC-355276896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747A-81CD-4238-90E3-1BF91258F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600D-DBAA-4F4E-A5A8-03EFEC66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8A98-6B5D-4036-A495-1EE92AC2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FB6D-A6C6-413A-B8B2-E0579BFA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1092E-4D25-4CE9-9FF5-71213E9E5D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38B4F-0DF2-442E-9C08-66A2ECF3A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6960" y="1292760"/>
            <a:ext cx="83361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Introducing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ctives:  SOL BIO.8a-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opulations change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evidence of an organism that lived long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rified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zen or A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ating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 layers are put down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est on bottom, youngest layers on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metric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-14 (50,000 years or 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-40 (1.3 billion years – 50,000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Use Fossil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have used the fossil record to construct a history of lif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’s life forms appeared 3.5 billion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sil record is not complete, but pretty good for gener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Life on Eart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ogenesis – life from non-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roven by Redi and Pas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ordial Soup – natural processes formed early orga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r-Urey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bble Theory – formed proto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ley 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i        &amp;      Pasteu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redi2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2914560" cy="2822400"/>
          </a:xfrm>
          <a:prstGeom prst="rect">
            <a:avLst/>
          </a:prstGeom>
          <a:ln w="0">
            <a:noFill/>
          </a:ln>
        </p:spPr>
      </p:pic>
      <p:pic>
        <p:nvPicPr>
          <p:cNvPr id="143" name="redi3" descr=""/>
          <p:cNvPicPr/>
          <p:nvPr/>
        </p:nvPicPr>
        <p:blipFill>
          <a:blip r:embed="rId2"/>
          <a:stretch/>
        </p:blipFill>
        <p:spPr>
          <a:xfrm>
            <a:off x="990720" y="4041720"/>
            <a:ext cx="325728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pasteur5" descr=""/>
          <p:cNvPicPr/>
          <p:nvPr/>
        </p:nvPicPr>
        <p:blipFill>
          <a:blip r:embed="rId3"/>
          <a:stretch/>
        </p:blipFill>
        <p:spPr>
          <a:xfrm>
            <a:off x="5029200" y="1828800"/>
            <a:ext cx="3733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Cel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es – Archaebacteria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es – endosymbiont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DNA in chloroplasts and 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rganelles the same size and shape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8:54:22Z</dcterms:created>
  <dc:creator>Michelle E. Rightler</dc:creator>
  <dc:description/>
  <dc:language>en-US</dc:language>
  <cp:lastModifiedBy>Michelle E. Rightler</cp:lastModifiedBy>
  <dcterms:modified xsi:type="dcterms:W3CDTF">2003-01-27T20:08:37Z</dcterms:modified>
  <cp:revision>1</cp:revision>
  <dc:subject/>
  <dc:title>Introducing Evolution</dc:title>
</cp:coreProperties>
</file>