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18E56-552C-43DE-B09F-3CDAF6DD4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C38E9-53B0-4995-BB2B-74434C116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B0377-6CB9-4C96-B89F-7A1B3D4F5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0ED24-349D-4AE2-B510-F6474DA22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46998-A694-4489-839A-7469102AA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F335D-2D37-47EA-9F6D-10397AE96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0449C-BC6A-42A2-9F3D-F601D4950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3C417-AB21-49B9-B520-C645914D5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8C4A8-8E33-4E01-9714-07CE0EB8D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6D8F2-9415-44CB-8242-564FBC5B7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17882-CCE7-4742-B144-ADDE2A15C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9365F-07CE-4A78-90E1-A6F50B344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D90CB-B4B3-4873-9AAD-DFFEE42CE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11FB2-03FD-4E5A-ACEC-36C2D57A4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E8322-03EE-41B8-A97E-15B4DBFD2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5AAFA-1316-4DF3-9428-288F3B1D9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15C94-50B9-43A7-A873-36AED9675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23F43-E363-4340-9E57-60DDC8E75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4B54F-2787-4B01-BF2D-1917F5F83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50F36-3F56-415F-BD7A-72338CFB7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9A538-D327-48C0-B211-C5C0FDE39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243FC-A337-4337-AA07-38E88767C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EAAE4-E16A-499F-9E2D-37AEBBD71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DC81C-043B-42B6-92EC-D872F780A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6A7E8-FFFC-461A-9ACD-F242B3E0BA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912A7-49D4-499A-ADFA-8963C5C92A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73240" y="129276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Primate Evolution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Today’s Objectives:  SOL BIO.8a-d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SW investigate and understand how primates have changed through time, includ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ining fossil recor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gnizing how adaptations lead to natural sel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rimates are mammals that have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posable thum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 b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, stereoscopic 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ility to brachi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exible elbows for hand ro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sping f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Early Primat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eared 60-65 million years a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simi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bod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murs, Tarsi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hropo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uman-like prim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olved in Af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Hominid Evolu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inids developed 5-8 million yrs a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inids ar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iped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hominids were in genu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ustralopithec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ucy” most famous fossil homin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modern hominids were in genu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Ho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ore recent human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omo sapie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developed 400,000 years ag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anderth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ope arrival (100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-Magn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ope arrival (40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ericas arrival (12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7T19:40:09Z</dcterms:created>
  <dc:creator>Michelle E. Rightler</dc:creator>
  <dc:description/>
  <dc:language>en-US</dc:language>
  <cp:lastModifiedBy>Michelle E. Rightler</cp:lastModifiedBy>
  <dcterms:modified xsi:type="dcterms:W3CDTF">2003-01-27T20:08:18Z</dcterms:modified>
  <cp:revision>1</cp:revision>
  <dc:subject/>
  <dc:title>Primate Evolution</dc:title>
</cp:coreProperties>
</file>