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4327-C9E7-480E-8FC6-DC9F4ADD0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1007-8827-46CC-936A-7B6F4577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A15B-05FD-4122-98AB-7F887549B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6FB7-7C7B-4258-8C14-B5E20B76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DEEC-0BC2-4F44-811F-25BDADBA5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D47C-B77C-40CF-921E-1266F18B8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A2755-745B-4179-94EB-2C956FBD8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634A-6EAF-45CE-92CF-181E7B682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F6CF-F05D-41C9-A9B8-F7CE7139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94BC-CAB3-4B1C-9915-A3D326F6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FF76-FABC-4DE8-B958-1EC6DD7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E89-B470-41CA-B74B-75947793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1B118-7D41-43E4-827F-B0326A91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50EB7-4A64-484B-AD21-95047C29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4274B-660B-4171-AD7C-B31C29ABE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A0C4-432B-48C3-B986-463AAF87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E77F-31A8-47D3-8315-F42E08F52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841D-F615-4D54-A6B9-DCE6D2E0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771-DA84-42E4-A546-1BE01D23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34E8-0472-423C-93AA-7B6D0910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B339-9456-485A-9790-B755E4D5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18B8-22D6-4E67-BE09-81BDF40E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C503-628E-4A91-A712-926A0CBC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EE8-D61E-4F44-A0A8-0C39127B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61CD-77F1-48F6-81F7-951B0BEC6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698C-6C1E-48E1-8287-0DF3F3BDA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6960" y="1292760"/>
            <a:ext cx="833616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Introducing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Objectives:  SOL BIO.8a-d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opulations change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vidence of an organism that lived long a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ypes of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ce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r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trified foss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zen or A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ting Fossi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ve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ck layers are put down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dest on bottom, youngest layers on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ometric 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bon-14 (50,000 years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assium-40 (1.3 billion years – 50,000 yea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y Use Fossil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tists have used the fossil record to construct a history of life on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th’s life forms appeared 3.5 billion years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sil record is not complete, but pretty good for 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Life on Earth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ogenesis – life from non-living t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roven by Redi and Pas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ordial Soup – natural processes formed early organic comp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er-Urey experi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bble Theory – formed proto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ley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di        &amp;      Pasteu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redi2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2914560" cy="2822400"/>
          </a:xfrm>
          <a:prstGeom prst="rect">
            <a:avLst/>
          </a:prstGeom>
          <a:ln w="0">
            <a:noFill/>
          </a:ln>
        </p:spPr>
      </p:pic>
      <p:pic>
        <p:nvPicPr>
          <p:cNvPr id="143" name="redi3" descr=""/>
          <p:cNvPicPr/>
          <p:nvPr/>
        </p:nvPicPr>
        <p:blipFill>
          <a:blip r:embed="rId2"/>
          <a:stretch/>
        </p:blipFill>
        <p:spPr>
          <a:xfrm>
            <a:off x="990720" y="4041720"/>
            <a:ext cx="3257280" cy="2664000"/>
          </a:xfrm>
          <a:prstGeom prst="rect">
            <a:avLst/>
          </a:prstGeom>
          <a:ln w="0">
            <a:noFill/>
          </a:ln>
        </p:spPr>
      </p:pic>
      <p:pic>
        <p:nvPicPr>
          <p:cNvPr id="144" name="pasteur5" descr=""/>
          <p:cNvPicPr/>
          <p:nvPr/>
        </p:nvPicPr>
        <p:blipFill>
          <a:blip r:embed="rId3"/>
          <a:stretch/>
        </p:blipFill>
        <p:spPr>
          <a:xfrm>
            <a:off x="5029200" y="1828800"/>
            <a:ext cx="3733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he Origin of Cell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karyotes – Archaebacteria (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karyotes – endosymbiont hypo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te DNA in chloroplasts and 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organelles the same size and shape of bac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8:54:22Z</dcterms:created>
  <dc:creator>Michelle E. Rightler</dc:creator>
  <dc:description/>
  <dc:language>en-US</dc:language>
  <cp:lastModifiedBy>Michelle E. Rightler</cp:lastModifiedBy>
  <dcterms:modified xsi:type="dcterms:W3CDTF">2003-01-27T20:08:37Z</dcterms:modified>
  <cp:revision>1</cp:revision>
  <dc:subject/>
  <dc:title>Introducing Evolution</dc:title>
</cp:coreProperties>
</file>