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68F-149D-431D-8726-D5E5BCA9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576E-5C63-4BA6-AEFB-BC80AD69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C04E-BD1E-4250-A99B-D4BE23740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BCAE-5611-4390-8C77-DDF478E2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89ED9-E32A-4311-AC5B-B4BBFC996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4DB7A-7F4E-49ED-8ADA-1ACA13D9C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9E5D-3EFF-42C9-8AA8-A22E8928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7018-8C83-4E0D-B1DC-E5C42B21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D64A9-384E-48F5-B48F-61E47AEFA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8587-2F3E-405D-9468-52EFF374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4D2A-19E9-423E-BA07-EBDFC17C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F03-3003-4DC9-AB11-3DC857AB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693C8-9EFC-440B-90A6-ED8C2239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12AD-E50E-49DE-A2B5-61C63480D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8A1B-92AE-409F-8D1E-4ABA6078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FCC0F-F276-4C93-B573-FF420FF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66C7-C3A6-4FEB-B8E0-54E33C2F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849C-C8FE-4D29-BB22-F3696785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8655-F42F-4304-953D-491F5595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4558-8316-45F2-BD6C-3D833ECDD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BA3-B99F-4F7D-BC5E-DD4A77D0A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8F5-D81A-4B8F-8E58-FBA83986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3D47-31B6-4431-B40B-BC9AECE7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64C-576B-4D03-8596-B3C7F58B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863A-BF6E-47F2-A9DC-0D1A8322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EF775-C9E8-4C09-8844-0D659E9A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2927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Primate Evolution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Today’s Objectives:  SOL BIO.8a-d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W investigate and understand how primates have changed through time, includ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ing fossil recor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ing how adaptations lead to natural sel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imates are mammals that have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sable thu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b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, stereoscopic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ility to brach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xible elbows for hand r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ping f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Early Prima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ared 60-65 million yea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simi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bo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murs, Tars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ropo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-like prim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olved in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Hominid Evolu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developed 5-8 million yrs a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minids ar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ustralopithe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” most famous fossil homin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modern hominids were in genu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o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re recent human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omo sapie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eveloped 400,000 years ag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anderth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10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-Magn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 arrival (40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s arrival (12,000 years a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7T19:40:09Z</dcterms:created>
  <dc:creator>Michelle E. Rightler</dc:creator>
  <dc:description/>
  <dc:language>en-US</dc:language>
  <cp:lastModifiedBy>Michelle E. Rightler</cp:lastModifiedBy>
  <dcterms:modified xsi:type="dcterms:W3CDTF">2003-01-27T20:08:18Z</dcterms:modified>
  <cp:revision>1</cp:revision>
  <dc:subject/>
  <dc:title>Primate Evolution</dc:title>
</cp:coreProperties>
</file>