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AA4A-0CD6-413A-8E92-F386E3366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17A8-E812-429A-9D23-7EA48717B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B7BF-8E1C-451B-8A8A-96C486D27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4881-DE31-44FC-AFE2-E7E4F4E45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6A8BA-3E74-4C93-BEAA-D76A65CAF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93F1C-AF55-4963-8DF2-47CED03F8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62355-94F8-4C08-9C4E-ECFFF3A98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B070F-D34A-4C5A-9FEA-2BF29E1C5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6BAA0-10DE-48DD-8217-DDA09C9FC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4D630-2AAB-4FDF-8814-E116AB63D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3BD0F-C0CB-43E9-91B3-5DF2913D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0347-30DE-4BBA-B4B5-202BED65C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10DF8-9C10-41A6-B724-BB7B9A28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34535-2C5A-4056-B2A5-92014D87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F00D5-B974-4392-8D77-CC706F9BD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71132-472A-4FE0-A8D4-0C1E82657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6C9EA-A2EF-4F50-B319-83BAC1571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349F-3C89-45E1-86E9-CC4659F48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4924-8098-48BA-AAB4-2257713DD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AD2C-9ACF-48B6-B0A5-1F628A77F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652C-F17C-49A3-886C-C5417678E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B0B7-3578-4640-B975-25236112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C518-E0C0-46C4-86D3-E43EAEA1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FAD6-5F25-4ED1-B7CA-535E212B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AEE21-4F26-4394-AAF3-4809FEA4E8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78690-C08A-4785-936B-C6CC922AFB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6960" y="1292760"/>
            <a:ext cx="83361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Introducing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bjectives:  SOL BIO.8a-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opulations change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evidence of an organism that lived long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rified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zen or A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ating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 layers are put down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est on bottom, youngest layers on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metric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-14 (50,000 years or 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-40 (1.3 billion years – 50,000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Use Fossil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have used the fossil record to construct a history of life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’s life forms appeared 3.5 billion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sil record is not complete, but pretty good for gener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Life on Eart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ogenesis – life from non-living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roven by Redi and Pas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ordial Soup – natural processes formed early orga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r-Urey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bble Theory – formed proto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ley F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i        &amp;      Pasteu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redi2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2914560" cy="2822400"/>
          </a:xfrm>
          <a:prstGeom prst="rect">
            <a:avLst/>
          </a:prstGeom>
          <a:ln w="0">
            <a:noFill/>
          </a:ln>
        </p:spPr>
      </p:pic>
      <p:pic>
        <p:nvPicPr>
          <p:cNvPr id="143" name="redi3" descr=""/>
          <p:cNvPicPr/>
          <p:nvPr/>
        </p:nvPicPr>
        <p:blipFill>
          <a:blip r:embed="rId2"/>
          <a:stretch/>
        </p:blipFill>
        <p:spPr>
          <a:xfrm>
            <a:off x="990720" y="4041720"/>
            <a:ext cx="3257280" cy="2664000"/>
          </a:xfrm>
          <a:prstGeom prst="rect">
            <a:avLst/>
          </a:prstGeom>
          <a:ln w="0">
            <a:noFill/>
          </a:ln>
        </p:spPr>
      </p:pic>
      <p:pic>
        <p:nvPicPr>
          <p:cNvPr id="144" name="pasteur5" descr=""/>
          <p:cNvPicPr/>
          <p:nvPr/>
        </p:nvPicPr>
        <p:blipFill>
          <a:blip r:embed="rId3"/>
          <a:stretch/>
        </p:blipFill>
        <p:spPr>
          <a:xfrm>
            <a:off x="5029200" y="1828800"/>
            <a:ext cx="3733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Cel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karyotes – Archaebacteria (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es – endosymbiont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DNA in chloroplasts and 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rganelles the same size and shape of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8:54:22Z</dcterms:created>
  <dc:creator>Michelle E. Rightler</dc:creator>
  <dc:description/>
  <dc:language>en-US</dc:language>
  <cp:lastModifiedBy>Michelle E. Rightler</cp:lastModifiedBy>
  <dcterms:modified xsi:type="dcterms:W3CDTF">2003-01-27T20:08:37Z</dcterms:modified>
  <cp:revision>1</cp:revision>
  <dc:subject/>
  <dc:title>Introducing Evolution</dc:title>
</cp:coreProperties>
</file>