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415C-F846-4CCC-B6AC-91EBE5C9E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0419-571E-40D7-AC6C-7E9C33726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1CFC-8969-4A47-8F66-575041929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FCF8-0D29-402F-BDA4-017AEFC5B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77AB4-30CA-4788-8B00-0C51CA27C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F50A7-34B1-4980-9377-D18585358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DEAA3-98A0-4C1B-B2FE-5D576FFA2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D5DDD-F3C9-438D-AB47-DD0858E57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28968-0312-4673-8CCA-2B87E4648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51F53-4A15-4975-8DC0-0DC11DD37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458AD-DD5E-4750-9103-CD475AAF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2869-B695-4B6B-9CD8-67D64E8AB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88A67-698E-4C5F-A58C-D1D02833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3C584-0A92-4379-9692-DD1B2404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63BCD-43D8-4DD9-A522-8BECAF30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9AA1B-68B7-43D5-9AFF-8A668B887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BF3A8-AD94-493F-9442-0B201AAEE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69D3-9BBB-4209-A60C-25C5A4E43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4E72-1327-4D75-A142-622FCAB0E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7C51-8AEE-4E2A-BBD7-AA5CCCDB2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FB85-C6C7-4CDC-8264-06818B39D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C833-AE2B-4228-85DC-3DB93800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2A46-797A-4300-AC45-86A1FAFF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CD64-8509-4081-9F96-211E3BB7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FFA94-4D79-4966-BAC0-95FAE36CA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EBEE3-1943-4FDB-9391-AAE42F970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6960" y="1292760"/>
            <a:ext cx="83361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Introducing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ctives:  SOL BIO.8a-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opulations change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evidence of an organism that lived long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rified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zen or A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ating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 layers are put down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est on bottom, youngest layers on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metric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-14 (50,000 years or 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-40 (1.3 billion years – 50,000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Use Fossil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have used the fossil record to construct a history of lif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’s life forms appeared 3.5 billion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sil record is not complete, but pretty good for gener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Life on Eart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ogenesis – life from non-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roven by Redi and Pas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ordial Soup – natural processes formed early orga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r-Urey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bble Theory – formed proto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ley 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i        &amp;      Pasteu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redi2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2914560" cy="2822400"/>
          </a:xfrm>
          <a:prstGeom prst="rect">
            <a:avLst/>
          </a:prstGeom>
          <a:ln w="0">
            <a:noFill/>
          </a:ln>
        </p:spPr>
      </p:pic>
      <p:pic>
        <p:nvPicPr>
          <p:cNvPr id="143" name="redi3" descr=""/>
          <p:cNvPicPr/>
          <p:nvPr/>
        </p:nvPicPr>
        <p:blipFill>
          <a:blip r:embed="rId2"/>
          <a:stretch/>
        </p:blipFill>
        <p:spPr>
          <a:xfrm>
            <a:off x="990720" y="4041720"/>
            <a:ext cx="325728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pasteur5" descr=""/>
          <p:cNvPicPr/>
          <p:nvPr/>
        </p:nvPicPr>
        <p:blipFill>
          <a:blip r:embed="rId3"/>
          <a:stretch/>
        </p:blipFill>
        <p:spPr>
          <a:xfrm>
            <a:off x="5029200" y="1828800"/>
            <a:ext cx="3733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Cel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es – Archaebacteria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es – endosymbiont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DNA in chloroplasts and 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rganelles the same size and shape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8:54:22Z</dcterms:created>
  <dc:creator>Michelle E. Rightler</dc:creator>
  <dc:description/>
  <dc:language>en-US</dc:language>
  <cp:lastModifiedBy>Michelle E. Rightler</cp:lastModifiedBy>
  <dcterms:modified xsi:type="dcterms:W3CDTF">2003-01-27T20:08:37Z</dcterms:modified>
  <cp:revision>1</cp:revision>
  <dc:subject/>
  <dc:title>Introducing Evolution</dc:title>
</cp:coreProperties>
</file>