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42B8-36F3-43AE-8107-C96188701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6146-64AE-499E-A8C7-0D3DED59C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3C10-194C-461C-94B4-33990FFCE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0642-1EBA-4DD1-AE70-3A87B3799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83BDB-C0D0-4AAF-BA1D-C6E931D6A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93547-4E50-4E75-B7EE-0BE5500DA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6FA5A-2D49-4433-A07B-0E4F53320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9CD17-DA3A-4519-8E31-E212DF075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F409F-D1F9-4524-8D42-837D1B789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398F6-FBB8-42BC-97B8-44F55C633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F7FE5-18EF-42E4-8ED4-B4321924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BD29-08B1-434B-BB17-C2A243E4E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BE2BB-70BB-4675-B46D-15BD04A2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ECD78-41E8-42A4-85A4-195FD5809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33AA1-7393-4AEF-9842-7710E77D9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D3EA4-79D6-4F3B-B42E-8289FC1C2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921BA-5668-4CEF-A018-2609426E2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D6C1-1336-4D82-A3B8-B5385B629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25A2-C371-43F5-B282-67BD86D95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0197-13C5-48B3-B7D5-FFB647B47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6D63-BA70-49C0-847D-2F129401D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FFE9-FE7A-40C4-8C21-43FA8D63D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200C-5C02-460C-8D0A-AE477A2DC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6E18-F192-4B96-B56A-E65CA7A81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6ABA2-97F2-4D84-A166-1A3BFA8E1F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DE44A-593B-4D66-A6C3-EF2C0FD13E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6960" y="1292760"/>
            <a:ext cx="833616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Introducing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bjectives:  SOL BIO.8a-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opulations change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evidence of an organism that lived long a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es of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rified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zen or A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ating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k layers are put down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dest on bottom, youngest layers on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metric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-14 (50,000 years or l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assium-40 (1.3 billion years – 50,000 ye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y Use Fossil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sts have used the fossil record to construct a history of life on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th’s life forms appeared 3.5 billion years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ssil record is not complete, but pretty good for gener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Life on Earth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ogenesis – life from non-living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roven by Redi and Pas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ordial Soup – natural processes formed early orga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er-Urey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bble Theory – formed proto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ley F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di        &amp;      Pasteu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redi2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2914560" cy="2822400"/>
          </a:xfrm>
          <a:prstGeom prst="rect">
            <a:avLst/>
          </a:prstGeom>
          <a:ln w="0">
            <a:noFill/>
          </a:ln>
        </p:spPr>
      </p:pic>
      <p:pic>
        <p:nvPicPr>
          <p:cNvPr id="143" name="redi3" descr=""/>
          <p:cNvPicPr/>
          <p:nvPr/>
        </p:nvPicPr>
        <p:blipFill>
          <a:blip r:embed="rId2"/>
          <a:stretch/>
        </p:blipFill>
        <p:spPr>
          <a:xfrm>
            <a:off x="990720" y="4041720"/>
            <a:ext cx="3257280" cy="2664000"/>
          </a:xfrm>
          <a:prstGeom prst="rect">
            <a:avLst/>
          </a:prstGeom>
          <a:ln w="0">
            <a:noFill/>
          </a:ln>
        </p:spPr>
      </p:pic>
      <p:pic>
        <p:nvPicPr>
          <p:cNvPr id="144" name="pasteur5" descr=""/>
          <p:cNvPicPr/>
          <p:nvPr/>
        </p:nvPicPr>
        <p:blipFill>
          <a:blip r:embed="rId3"/>
          <a:stretch/>
        </p:blipFill>
        <p:spPr>
          <a:xfrm>
            <a:off x="5029200" y="1828800"/>
            <a:ext cx="3733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Cel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karyotes – Archaebacteria (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karyotes – endosymbiont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DNA in chloroplasts and mitoch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organelles the same size and shape of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8:54:22Z</dcterms:created>
  <dc:creator>Michelle E. Rightler</dc:creator>
  <dc:description/>
  <dc:language>en-US</dc:language>
  <cp:lastModifiedBy>Michelle E. Rightler</cp:lastModifiedBy>
  <dcterms:modified xsi:type="dcterms:W3CDTF">2003-01-27T20:08:37Z</dcterms:modified>
  <cp:revision>1</cp:revision>
  <dc:subject/>
  <dc:title>Introducing Evolution</dc:title>
</cp:coreProperties>
</file>