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467F-3544-41A3-9532-D60A02F7A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252A-334C-48E1-A473-434EAE87C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129C-BAA4-4E0C-A3B8-E2EBA8E82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3023-66D9-4DD5-9B3A-F5F2AC2AF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070B9-0609-4CC2-90E3-5AFDE2DEF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8FC47-8764-40F9-8455-F58672261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D2044-C5F2-4870-9CA1-1526B8C62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E27BE-A1C6-4964-A013-0BFBC4FE9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ED51A-8F35-4978-BE25-3858EF6A2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AE1BE-9FF6-435E-BFA6-A0DD374C3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FFCAD-7BB9-4C0C-9D7A-33533680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07A8-DEA2-4DA6-9D34-192A46FDB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DED0E-0A1C-4FD2-9B11-64661A562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BBF07-566D-4EA4-A901-50C635188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85438-8C52-419A-BB16-7AEBB8858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F4574-E364-4BC3-862A-7E8EBB5E3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C6A89-9A15-4B28-B87C-601CF473B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949E-404A-423B-83FA-3A607016F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3890-7D7D-4B63-96CD-B19405CA2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8F0C-EE13-4FA8-AE81-F0D392277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F4D4-2A6C-45EE-A8FD-7EB91E80B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921F-B89E-4670-BE5D-3DA11ED74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6DF7-C15D-476C-B590-B392038D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37D6-7F6C-42D9-AEC8-4DAD89CA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D33F7-B648-4880-97DB-CB442D3AF5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084AF-B824-4215-8265-D4E4EC3DF9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6960" y="1292760"/>
            <a:ext cx="833616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Introducing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bjectives:  SOL BIO.8a-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opulations change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evidence of an organism that lived long a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es of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rified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zen or A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ating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k layers are put down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dest on bottom, youngest layers on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metric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-14 (50,000 years or l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assium-40 (1.3 billion years – 50,000 ye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y Use Fossil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sts have used the fossil record to construct a history of life on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th’s life forms appeared 3.5 billion years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ssil record is not complete, but pretty good for gener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Life on Earth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ogenesis – life from non-living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roven by Redi and Pas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ordial Soup – natural processes formed early orga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er-Urey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bble Theory – formed proto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ley F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di        &amp;      Pasteu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redi2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2914560" cy="2822400"/>
          </a:xfrm>
          <a:prstGeom prst="rect">
            <a:avLst/>
          </a:prstGeom>
          <a:ln w="0">
            <a:noFill/>
          </a:ln>
        </p:spPr>
      </p:pic>
      <p:pic>
        <p:nvPicPr>
          <p:cNvPr id="143" name="redi3" descr=""/>
          <p:cNvPicPr/>
          <p:nvPr/>
        </p:nvPicPr>
        <p:blipFill>
          <a:blip r:embed="rId2"/>
          <a:stretch/>
        </p:blipFill>
        <p:spPr>
          <a:xfrm>
            <a:off x="990720" y="4041720"/>
            <a:ext cx="3257280" cy="2664000"/>
          </a:xfrm>
          <a:prstGeom prst="rect">
            <a:avLst/>
          </a:prstGeom>
          <a:ln w="0">
            <a:noFill/>
          </a:ln>
        </p:spPr>
      </p:pic>
      <p:pic>
        <p:nvPicPr>
          <p:cNvPr id="144" name="pasteur5" descr=""/>
          <p:cNvPicPr/>
          <p:nvPr/>
        </p:nvPicPr>
        <p:blipFill>
          <a:blip r:embed="rId3"/>
          <a:stretch/>
        </p:blipFill>
        <p:spPr>
          <a:xfrm>
            <a:off x="5029200" y="1828800"/>
            <a:ext cx="3733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Cel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karyotes – Archaebacteria (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karyotes – endosymbiont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DNA in chloroplasts and mitoch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organelles the same size and shape of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8:54:22Z</dcterms:created>
  <dc:creator>Michelle E. Rightler</dc:creator>
  <dc:description/>
  <dc:language>en-US</dc:language>
  <cp:lastModifiedBy>Michelle E. Rightler</cp:lastModifiedBy>
  <dcterms:modified xsi:type="dcterms:W3CDTF">2003-01-27T20:08:37Z</dcterms:modified>
  <cp:revision>1</cp:revision>
  <dc:subject/>
  <dc:title>Introducing Evolution</dc:title>
</cp:coreProperties>
</file>