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B2C5-BB61-4FFB-B294-6A4E4FDC2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8926-CC29-4163-9BA8-D6300FBD9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6D04-C9F4-4177-96A4-0855AED42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D9E3-1D5D-4DCE-8798-A5135EEF6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68B0E-0F67-4696-BABB-3415244C6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77ED9-7308-497D-B4AA-086D3750C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9F858-51E9-49F0-BAC4-17C337957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7557C-18D0-40C0-AE54-4AC55F2B1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3AFF6-D534-4DEA-843A-238259291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842A9-B9D7-44EA-8397-911FB6936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35282-266E-4F53-B6A5-A3F099B90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E88A-07B9-4BA6-ACE6-74CACC2FF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83DE5-3811-4799-9A12-302E4815D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07692-4653-4A89-A832-B0B4FE39C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DA56D-FA50-429D-A3B0-085E87E0A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7094D-ACCE-4626-83FD-D1AFA1CD8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F6463-AF3F-431F-B2A1-591848740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33F9-B169-4F2A-960A-DDB66FE75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B61A-D0CD-460D-A30F-DC90BA074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7882-1D23-45EF-89DC-6201F56A6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343E-393B-4C4D-AC63-9B1688D0D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1396-5946-41B4-857C-0D20CA3A4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9247-C5DD-4ACE-B8BC-2284C99B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FBF2-A45B-4651-98E3-EC9A90FD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1079A-A0CD-426C-87DA-0E7EE8CD8C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DF4E0-0DBB-4FCF-8D53-44F8BE7883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6960" y="1292760"/>
            <a:ext cx="833616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Introducing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bjectives:  SOL BIO.8a-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opulations change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evidence of an organism that lived long a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es of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rified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zen or A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ating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k layers are put down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dest on bottom, youngest layers on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metric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-14 (50,000 years or l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assium-40 (1.3 billion years – 50,000 ye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y Use Fossil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sts have used the fossil record to construct a history of life on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th’s life forms appeared 3.5 billion years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ssil record is not complete, but pretty good for gener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Life on Earth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ogenesis – life from non-living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roven by Redi and Pas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ordial Soup – natural processes formed early orga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er-Urey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bble Theory – formed proto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ley F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di        &amp;      Pasteu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redi2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2914560" cy="2822400"/>
          </a:xfrm>
          <a:prstGeom prst="rect">
            <a:avLst/>
          </a:prstGeom>
          <a:ln w="0">
            <a:noFill/>
          </a:ln>
        </p:spPr>
      </p:pic>
      <p:pic>
        <p:nvPicPr>
          <p:cNvPr id="143" name="redi3" descr=""/>
          <p:cNvPicPr/>
          <p:nvPr/>
        </p:nvPicPr>
        <p:blipFill>
          <a:blip r:embed="rId2"/>
          <a:stretch/>
        </p:blipFill>
        <p:spPr>
          <a:xfrm>
            <a:off x="990720" y="4041720"/>
            <a:ext cx="3257280" cy="2664000"/>
          </a:xfrm>
          <a:prstGeom prst="rect">
            <a:avLst/>
          </a:prstGeom>
          <a:ln w="0">
            <a:noFill/>
          </a:ln>
        </p:spPr>
      </p:pic>
      <p:pic>
        <p:nvPicPr>
          <p:cNvPr id="144" name="pasteur5" descr=""/>
          <p:cNvPicPr/>
          <p:nvPr/>
        </p:nvPicPr>
        <p:blipFill>
          <a:blip r:embed="rId3"/>
          <a:stretch/>
        </p:blipFill>
        <p:spPr>
          <a:xfrm>
            <a:off x="5029200" y="1828800"/>
            <a:ext cx="3733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Cel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karyotes – Archaebacteria (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karyotes – endosymbiont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DNA in chloroplasts and mitoch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organelles the same size and shape of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8:54:22Z</dcterms:created>
  <dc:creator>Michelle E. Rightler</dc:creator>
  <dc:description/>
  <dc:language>en-US</dc:language>
  <cp:lastModifiedBy>Michelle E. Rightler</cp:lastModifiedBy>
  <dcterms:modified xsi:type="dcterms:W3CDTF">2003-01-27T20:08:37Z</dcterms:modified>
  <cp:revision>1</cp:revision>
  <dc:subject/>
  <dc:title>Introducing Evolution</dc:title>
</cp:coreProperties>
</file>