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D9B0-CD73-4EC8-8BDB-D34B57AAF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C424-27B5-4230-919F-5669CB929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CF71-3B89-418D-9725-0AD7F4C72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1633-AFA9-455D-81DB-5CF5E5374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0D64D-1613-40D8-8522-AC93DA569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AC30D-2A80-4AA5-BC71-23DB25813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D8382-1908-4E8B-B072-DC6C9F08B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C73B0-A8DA-45D8-B7B2-1E6ED9264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F7913-0799-45D0-A0F2-C39E798F8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45EAE-8616-4D74-8A6F-BD1B4E337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D3B3C-1B5E-44D0-885D-9E5B6867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D154-C5E9-46DB-8EE8-8F8ACEA99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584B7-A44C-43D0-A671-D1874475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F244E-3B7C-4E29-B1C2-2BB6F193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3DA55-6EED-45F0-853D-65029CBD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8E335-34BC-4C2B-833F-0E3359F07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AA94A-C0CD-4D0A-B5F2-ACF1AAD29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BA56-796C-43E3-918E-D1F6C487C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B5B6-B3C3-47A9-AB1C-5F275306D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2AA6-DC35-40ED-9C24-1EE86DE49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1177-5190-4941-BCA7-6A9CA077A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9280-7321-4E8D-BF88-CC316E7D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4635-256B-46F2-BDA5-B4BED74D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8E35-9D87-45B8-89F8-DC80A8CD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DCB62-C41C-4D5D-8F2F-4490E42BC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8501E-3038-44A1-94C6-9AA5CEC60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6960" y="1292760"/>
            <a:ext cx="83361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Introducing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ctives:  SOL BIO.8a-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opulations change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evidence of an organism that lived long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rified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zen or A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ating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 layers are put down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est on bottom, youngest layers on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metric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-14 (50,000 years or 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-40 (1.3 billion years – 50,000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Use Fossil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have used the fossil record to construct a history of lif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’s life forms appeared 3.5 billion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sil record is not complete, but pretty good for gener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Life on Eart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ogenesis – life from non-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roven by Redi and Pas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ordial Soup – natural processes formed early orga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r-Urey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bble Theory – formed proto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ley 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i        &amp;      Pasteu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redi2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2914560" cy="2822400"/>
          </a:xfrm>
          <a:prstGeom prst="rect">
            <a:avLst/>
          </a:prstGeom>
          <a:ln w="0">
            <a:noFill/>
          </a:ln>
        </p:spPr>
      </p:pic>
      <p:pic>
        <p:nvPicPr>
          <p:cNvPr id="143" name="redi3" descr=""/>
          <p:cNvPicPr/>
          <p:nvPr/>
        </p:nvPicPr>
        <p:blipFill>
          <a:blip r:embed="rId2"/>
          <a:stretch/>
        </p:blipFill>
        <p:spPr>
          <a:xfrm>
            <a:off x="990720" y="4041720"/>
            <a:ext cx="325728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pasteur5" descr=""/>
          <p:cNvPicPr/>
          <p:nvPr/>
        </p:nvPicPr>
        <p:blipFill>
          <a:blip r:embed="rId3"/>
          <a:stretch/>
        </p:blipFill>
        <p:spPr>
          <a:xfrm>
            <a:off x="5029200" y="1828800"/>
            <a:ext cx="3733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Cel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es – Archaebacteria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es – endosymbiont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DNA in chloroplasts and 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rganelles the same size and shape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8:54:22Z</dcterms:created>
  <dc:creator>Michelle E. Rightler</dc:creator>
  <dc:description/>
  <dc:language>en-US</dc:language>
  <cp:lastModifiedBy>Michelle E. Rightler</cp:lastModifiedBy>
  <dcterms:modified xsi:type="dcterms:W3CDTF">2003-01-27T20:08:37Z</dcterms:modified>
  <cp:revision>1</cp:revision>
  <dc:subject/>
  <dc:title>Introducing Evolution</dc:title>
</cp:coreProperties>
</file>