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7F27-AD53-42B3-9B48-173A18208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A662-A9FA-43D6-B474-7F6CCCBCC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FBB7-2BBD-4C0D-BC26-2EFCA0DA6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5C62-409E-4AEB-A670-81C188E6A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42A46-7689-49F2-B164-148743ED7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73E34-7BAC-4D46-BB8B-01D37C843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6CB3D-C4CF-4EF0-B31D-66B5A18C3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E9A1D-8FE8-484F-8782-FDC330DD8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78999-D10A-4C07-BB29-D307D228F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39DDE-6A54-4393-99DB-C8659E9CA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27202-FA1F-4408-9E80-764F41944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BF89-591E-4875-804E-422B0961E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DC20E-3C3D-4B73-BB1A-D0CEF46C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20A58-5A5A-439B-A2E9-48C0D320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E7DDC-0EA1-441C-86FB-400FE353B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3B3B9-348A-4F82-8004-FDEB8727B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2ADAF-07FA-45E2-9FAD-D5037A546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F67C-AFA1-43B8-B793-F00A1A3DD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CA9E-600B-4994-81DC-1AD1C901F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C4F3-03D5-479A-91C9-3C22773CC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048B-4086-4F19-9BE9-634B27AA4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526B-4C25-4EB4-80F1-5F7DB5D3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D4EF-DEDB-4EB5-B579-33A23CCB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0D5E-0D51-4938-BB21-D34A44093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43998-0EA7-4627-9EA9-265275D068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27E34-FAC1-4E8F-B68C-1221A413F6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6960" y="1292760"/>
            <a:ext cx="833616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Introducing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bjectives:  SOL BIO.8a-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opulations change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evidence of an organism that lived long a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es of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rified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zen or A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ating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k layers are put down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dest on bottom, youngest layers on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metric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-14 (50,000 years or l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assium-40 (1.3 billion years – 50,000 ye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y Use Fossil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sts have used the fossil record to construct a history of life on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th’s life forms appeared 3.5 billion years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ssil record is not complete, but pretty good for gener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Life on Earth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ogenesis – life from non-living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roven by Redi and Pas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ordial Soup – natural processes formed early orga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er-Urey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bble Theory – formed proto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ley F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di        &amp;      Pasteu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redi2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2914560" cy="2822400"/>
          </a:xfrm>
          <a:prstGeom prst="rect">
            <a:avLst/>
          </a:prstGeom>
          <a:ln w="0">
            <a:noFill/>
          </a:ln>
        </p:spPr>
      </p:pic>
      <p:pic>
        <p:nvPicPr>
          <p:cNvPr id="143" name="redi3" descr=""/>
          <p:cNvPicPr/>
          <p:nvPr/>
        </p:nvPicPr>
        <p:blipFill>
          <a:blip r:embed="rId2"/>
          <a:stretch/>
        </p:blipFill>
        <p:spPr>
          <a:xfrm>
            <a:off x="990720" y="4041720"/>
            <a:ext cx="3257280" cy="2664000"/>
          </a:xfrm>
          <a:prstGeom prst="rect">
            <a:avLst/>
          </a:prstGeom>
          <a:ln w="0">
            <a:noFill/>
          </a:ln>
        </p:spPr>
      </p:pic>
      <p:pic>
        <p:nvPicPr>
          <p:cNvPr id="144" name="pasteur5" descr=""/>
          <p:cNvPicPr/>
          <p:nvPr/>
        </p:nvPicPr>
        <p:blipFill>
          <a:blip r:embed="rId3"/>
          <a:stretch/>
        </p:blipFill>
        <p:spPr>
          <a:xfrm>
            <a:off x="5029200" y="1828800"/>
            <a:ext cx="3733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Cel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karyotes – Archaebacteria (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karyotes – endosymbiont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DNA in chloroplasts and mitoch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organelles the same size and shape of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8:54:22Z</dcterms:created>
  <dc:creator>Michelle E. Rightler</dc:creator>
  <dc:description/>
  <dc:language>en-US</dc:language>
  <cp:lastModifiedBy>Michelle E. Rightler</cp:lastModifiedBy>
  <dcterms:modified xsi:type="dcterms:W3CDTF">2003-01-27T20:08:37Z</dcterms:modified>
  <cp:revision>1</cp:revision>
  <dc:subject/>
  <dc:title>Introducing Evolution</dc:title>
</cp:coreProperties>
</file>