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A79BF-8037-4EB9-85DB-E5CB368C5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5EF44-5E1F-4FBB-A019-48D2C261F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2EF53-A78B-4CC1-A696-2EA51BC5D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52BB5-9318-4C59-92C6-B74EA4E48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3D8E9-F6C3-430E-995C-800E7E295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C78B9-CDCF-4C16-ABB5-A16476F18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ED644-5F20-4D2E-B410-240DE5758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7E5ED-0D60-4862-B7AA-28CBA023D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752DC-1811-4E04-9091-7CD2A2137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380AA-A192-4742-B9C6-7D1AC7809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97772-5300-424F-B8BD-69AC3221D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2899B-F4C3-4BA7-8170-8AEB0DC34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B2943-32D9-4625-AB49-B1B9065B4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5945D-A577-4F71-A70E-2FA94AB4C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26C87-850F-4165-B3E8-5967C0DC2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F71FC-EB2B-4083-9EB3-4FD59D7E0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42327-9ED5-4A59-ADCC-4853D23A4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A441A-3475-47D9-BA41-E41C4864C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37D38-E486-417B-A61A-EB6A28067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DA25E-CCAD-4A53-B203-418C4F62C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04FB4-AD18-431D-A8BA-900468AA6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AECAA-D33E-4F19-ABFA-9A3600CE0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76C5C-E25F-47FD-981D-855601BD1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27F58-4140-4A2D-B233-487D8F113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00679-CF93-4DA6-841D-4DA63594B0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A4A99-E7A3-438B-AB6F-1CB30D6B3D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26960" y="1292760"/>
            <a:ext cx="833616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Introducing Evolution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Objectives:  SOL BIO.8a-d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SW investigate and understand how populations change through time, includ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ining fossil rec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Fossi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y evidence of an organism that lived long ag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ypes of Fossi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ce fossi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r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trified fossi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zen or A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Dating Fossi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ve Da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ck layers are put down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ldest on bottom, youngest layers on t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diometric Da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bon-14 (50,000 years or les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tassium-40 (1.3 billion years – 50,000 yea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Why Use Fossils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ientists have used the fossil record to construct a history of life on Ear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rth’s life forms appeared 3.5 billion years a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ssil record is not complete, but pretty good for general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he Origin of Life on Earth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iogenesis – life from non-living th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proven by Redi and Paste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mordial Soup – natural processes formed early organic compou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ller-Urey experi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bble Theory – formed proto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ley Fo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      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Redi        &amp;      Pasteur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42" name="redi2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2914560" cy="2822400"/>
          </a:xfrm>
          <a:prstGeom prst="rect">
            <a:avLst/>
          </a:prstGeom>
          <a:ln w="0">
            <a:noFill/>
          </a:ln>
        </p:spPr>
      </p:pic>
      <p:pic>
        <p:nvPicPr>
          <p:cNvPr id="143" name="redi3" descr=""/>
          <p:cNvPicPr/>
          <p:nvPr/>
        </p:nvPicPr>
        <p:blipFill>
          <a:blip r:embed="rId2"/>
          <a:stretch/>
        </p:blipFill>
        <p:spPr>
          <a:xfrm>
            <a:off x="990720" y="4041720"/>
            <a:ext cx="3257280" cy="2664000"/>
          </a:xfrm>
          <a:prstGeom prst="rect">
            <a:avLst/>
          </a:prstGeom>
          <a:ln w="0">
            <a:noFill/>
          </a:ln>
        </p:spPr>
      </p:pic>
      <p:pic>
        <p:nvPicPr>
          <p:cNvPr id="144" name="pasteur5" descr=""/>
          <p:cNvPicPr/>
          <p:nvPr/>
        </p:nvPicPr>
        <p:blipFill>
          <a:blip r:embed="rId3"/>
          <a:stretch/>
        </p:blipFill>
        <p:spPr>
          <a:xfrm>
            <a:off x="5029200" y="1828800"/>
            <a:ext cx="373392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he Origin of Cel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karyotes – Archaebacteria (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ell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ukaryotes – endosymbiont hypoth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parate DNA in chloroplasts and mitochond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th organelles the same size and shape of bact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7T18:54:22Z</dcterms:created>
  <dc:creator>Michelle E. Rightler</dc:creator>
  <dc:description/>
  <dc:language>en-US</dc:language>
  <cp:lastModifiedBy>Michelle E. Rightler</cp:lastModifiedBy>
  <dcterms:modified xsi:type="dcterms:W3CDTF">2003-01-27T20:08:37Z</dcterms:modified>
  <cp:revision>1</cp:revision>
  <dc:subject/>
  <dc:title>Introducing Evolution</dc:title>
</cp:coreProperties>
</file>